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4895-25D7-4968-B0C3-2F60EAB75B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15B-883A-43F8-954A-52C37059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614-5D7A-46A9-B684-FFAA8D52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76E-7E1B-4F26-BD98-8FEAA7A7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25F-E7AC-4F9E-A133-77E9DFA5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F51B-28AF-4715-B142-FCEEA4F8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F2A-5940-4CC7-B6FF-F2ED76D2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3AFD-BFCB-4867-81D8-E63C544B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5187-7EDD-4C9E-8369-4587D206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400A-7263-4B23-907D-FBF87AB8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1856-1671-4879-92CD-F99CB64D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8E87-D88C-46A9-B576-25741CD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466-5FC0-40BC-873F-A48C5A68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1650-C48F-4C98-A1D3-5C514529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5FD6-C89F-4A70-BEE0-DB296C23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6213-D395-4ECE-BF82-DA4E1839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9A50-69D2-45BE-9CB0-06A79F19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D3DD-E090-4EEA-8CD6-ADBCE595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502CB-417C-45BF-8C21-A89D0CDB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BFE0F-1695-4DB4-81CD-5AD58621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42A70-68AC-4880-94AE-3B51D952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801E6-C2F4-474B-9AF3-4A1276B1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3DA52-006E-4FE3-94B8-3EDCA09F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669-1AF4-4FD0-A969-451EFB40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D047B-7216-47E1-8EF2-75157205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4701D-F83C-4702-8682-99000556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998B9-1AB9-4EBB-AE63-3C41883C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317C9-3406-41E6-8CD9-4F312EDA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7146B-32B3-4F18-9DF9-1A90B880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281EC-3F1F-41C8-8F10-2D5AB15F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523B1-3F4F-4B48-8F71-82928F08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B28C3-D25C-4D38-9F49-B0BDFEFE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7E89E-49DE-4032-A13A-9CEACBFA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A62F0-3DDA-473A-A0DE-257803C0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90E-84DD-4BA9-AB33-A02E9544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9612-F058-49BD-B4F5-7B206B6B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9E32-3095-4B2E-AAE7-044F8831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34230-3067-4BA8-A915-F6872877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6A5DA-137D-49BC-8EEF-3A0D6FBD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4859-A6A4-4710-AAF2-276290B1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8778B-2ADB-4E43-8904-088705A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478D9-D55F-4F40-B12D-92E3AFE6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693D-2C83-48C5-B8F4-71E7F439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CDA69-9E0A-43C2-8642-5F48B76A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E57-5E89-4457-8DBB-44B2916C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184-CF4B-4293-89A3-36BE05CF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CEC-EF9D-42C1-B2A9-547F503F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44E-B027-4998-9117-B0417652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26E-DC04-4E92-AD39-A358476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CC5F-7366-4F64-AF6F-43117C73FC9B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7E5E-57B6-4152-A6D3-27837C0AD27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C376-4E48-4096-A86C-2BD1EBAEFFC4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D74B-7536-4B1C-A416-9ADB760D087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1BAB-2EF1-4A82-8BA3-C9C3A5E79F91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9112-DB3B-459C-87F9-B6AA7B87D0E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411C-05E2-425D-9284-4C5E0F7A1A68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55DC-D7B3-42CB-A192-D90B7939FAF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2357280"/>
            <a:ext cx="8458200" cy="175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авосознани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                          и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286080" y="4142880"/>
            <a:ext cx="585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imes New Roman"/>
              </a:rPr>
              <a:t>правовая культура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569640" y="59180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066160" cy="1655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362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ыд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709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41360"/>
            <a:ext cx="8435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адают юристы, специалисты-прак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теоретическое)  - источник правотворч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3"/>
          <p:cNvSpPr/>
          <p:nvPr/>
        </p:nvSpPr>
        <p:spPr>
          <a:xfrm>
            <a:off x="2627280" y="2852640"/>
            <a:ext cx="3786120" cy="13575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обенности    правового со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755640" y="620640"/>
            <a:ext cx="3065400" cy="172872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тражает явления, связанные с пра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2411280" y="4581360"/>
            <a:ext cx="4176720" cy="17272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Формируется многими поколениями, характеризуется преемств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4716360" y="642960"/>
            <a:ext cx="3498840" cy="16336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сознание правовых явлений через юридические понятия и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Соединительная линия уступом 16"/>
          <p:cNvCxnSpPr/>
          <p:nvPr/>
        </p:nvCxnSpPr>
        <p:spPr>
          <a:xfrm rot="5400000">
            <a:off x="4464000" y="3609000"/>
            <a:ext cx="357840" cy="286200"/>
          </a:xfrm>
          <a:prstGeom prst="bentConnector3">
            <a:avLst>
              <a:gd name="adj1" fmla="val 12386"/>
            </a:avLst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f68"/>
                </a:solidFill>
                <a:latin typeface="Times New Roman"/>
              </a:rPr>
              <a:t>Правовая культу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41e3"/>
                </a:solidFill>
                <a:latin typeface="Times New Roman"/>
              </a:rPr>
              <a:t>В широком смысле</a:t>
            </a: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41e3"/>
                </a:solidFill>
                <a:latin typeface="Times New Roman"/>
              </a:rPr>
              <a:t>В узком смысле</a:t>
            </a:r>
            <a:r>
              <a:rPr b="1" lang="ru-RU" sz="3200" spc="-1" strike="noStrike">
                <a:solidFill>
                  <a:srgbClr val="3e3f68"/>
                </a:solidFill>
                <a:latin typeface="Times New Roman"/>
              </a:rPr>
              <a:t>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11280" y="37861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ндивиду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292720" y="3860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ществен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2555640" y="25653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500720" y="2565360"/>
            <a:ext cx="201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39640" y="256536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ниги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ицание правовых установ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идеа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возвеличивание роли пра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940360" y="5950080"/>
            <a:ext cx="35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Причины правового нигилизма</a:t>
            </a: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Формы правового воспит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f68"/>
                </a:solidFill>
                <a:latin typeface="Times New Roman"/>
              </a:rPr>
              <a:t>§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Задание № 1, 2, 3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созн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Выноска со стрелками влево/вправо 3"/>
          <p:cNvSpPr/>
          <p:nvPr/>
        </p:nvSpPr>
        <p:spPr>
          <a:xfrm>
            <a:off x="2571840" y="1643040"/>
            <a:ext cx="4071960" cy="928800"/>
          </a:xfrm>
          <a:custGeom>
            <a:avLst/>
            <a:gdLst>
              <a:gd name="textAreaLeft" fmla="*/ 487080 w 4071960"/>
              <a:gd name="textAreaRight" fmla="*/ 3584880 w 40719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2584" y="0"/>
                </a:moveTo>
                <a:lnTo>
                  <a:pt x="19016" y="0"/>
                </a:lnTo>
                <a:lnTo>
                  <a:pt x="19016" y="8570"/>
                </a:lnTo>
                <a:lnTo>
                  <a:pt x="20290" y="8570"/>
                </a:lnTo>
                <a:lnTo>
                  <a:pt x="20290" y="6772"/>
                </a:lnTo>
                <a:lnTo>
                  <a:pt x="21600" y="10800"/>
                </a:lnTo>
                <a:lnTo>
                  <a:pt x="20290" y="14828"/>
                </a:lnTo>
                <a:lnTo>
                  <a:pt x="20290" y="13030"/>
                </a:lnTo>
                <a:lnTo>
                  <a:pt x="19016" y="13030"/>
                </a:lnTo>
                <a:lnTo>
                  <a:pt x="19016" y="21600"/>
                </a:lnTo>
                <a:lnTo>
                  <a:pt x="2584" y="21600"/>
                </a:lnTo>
                <a:lnTo>
                  <a:pt x="2584" y="13030"/>
                </a:lnTo>
                <a:lnTo>
                  <a:pt x="1310" y="13030"/>
                </a:lnTo>
                <a:lnTo>
                  <a:pt x="1310" y="14828"/>
                </a:lnTo>
                <a:lnTo>
                  <a:pt x="0" y="10800"/>
                </a:lnTo>
                <a:lnTo>
                  <a:pt x="1310" y="6772"/>
                </a:lnTo>
                <a:lnTo>
                  <a:pt x="1310" y="8570"/>
                </a:lnTo>
                <a:lnTo>
                  <a:pt x="2584" y="8570"/>
                </a:lnTo>
                <a:close/>
              </a:path>
            </a:pathLst>
          </a:custGeom>
          <a:solidFill>
            <a:srgbClr val="406f8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Times New Roman"/>
              </a:rPr>
              <a:t>правосо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50920" y="2133720"/>
            <a:ext cx="2305080" cy="235728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6659640" y="2143080"/>
            <a:ext cx="2198520" cy="235764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иде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псих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498760"/>
            <a:ext cx="7572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иде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56800" y="2285640"/>
            <a:ext cx="7572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04000" y="-4147920"/>
            <a:ext cx="824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знания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информация о различных сторонах правовой системы обществ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эмоции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 чувственное отношение к праву в форме позитивных и негативных переживан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4456"/>
                </a:solidFill>
                <a:latin typeface="Times New Roman"/>
              </a:rPr>
              <a:t>Правовая установка</a:t>
            </a:r>
            <a:r>
              <a:rPr b="0" lang="ru-RU" sz="4000" spc="-1" strike="noStrike">
                <a:solidFill>
                  <a:srgbClr val="42445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989000"/>
            <a:ext cx="757260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авомер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отивоправ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8432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4456"/>
                </a:solidFill>
                <a:latin typeface="Times New Roman"/>
              </a:rPr>
              <a:t>Правосознание по субъектам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отношение к праву отдельного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лектив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Группов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ношение к праву групп и коллективов люде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бще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авовые идеи, взгляды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3:44:26Z</dcterms:created>
  <dc:creator>Пыркина</dc:creator>
  <dc:description/>
  <dc:language>en-US</dc:language>
  <cp:lastModifiedBy>LEGION</cp:lastModifiedBy>
  <dcterms:modified xsi:type="dcterms:W3CDTF">2016-01-04T08:09:19Z</dcterms:modified>
  <cp:revision>31</cp:revision>
  <dc:subject/>
  <dc:title>Правосознание                                  и</dc:title>
</cp:coreProperties>
</file>